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07B1-9754-4EAA-90C4-11047B15C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D31-2778-4DED-9E18-5D5398B0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29B-AC1E-4CC2-B555-B6B84C3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2B9-319B-4D54-8F5A-D8FBCFBC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C5D-672A-47F9-8D5D-E993C420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4896-3E6E-4CE4-97AD-2C70EF53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CFE8-6270-42A8-8826-9F4D1FC7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D395-30D1-462A-9E44-962A38D8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F5E3-4D85-455E-B1CB-60EB625F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A4B5-99ED-4BA2-A39F-4EDA7D2E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6FF0-63C6-4049-8F6F-2F1E9341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390D-7758-48A4-BDC3-7DF9D099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B11-4FF0-4B8A-AA04-DE537772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F7F5-4B7E-4A70-A279-85DCBD08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5BEE-25D1-45C3-A35F-34B15963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60C9-3B9E-4A0D-BED3-366003B0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F523-387F-4E1A-98DB-AB79A237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DA84-A886-4729-B4E2-06C157A9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91D-2314-49A3-AAA6-56489109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64C-B2A9-4164-AAB7-9A61DC99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CEA-5710-455E-AFD2-D22996C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0A3-787F-483A-82CB-B6180488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B89-B072-4958-A75E-60FF5F71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2AD-C1C6-48CC-AB4F-01B912A5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D35-1578-4F22-B423-B84D80B6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83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6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69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0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1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2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3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4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5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0EE0-6534-4768-9735-93B742B3A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83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4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3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4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5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6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7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8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49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67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0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1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2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3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4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5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6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7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58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59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0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1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2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3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4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5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6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8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69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4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C2CA-2DC8-475A-8186-144065C0D428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r. Clutte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MS Librar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endParaRPr b="0" lang="en-US" sz="6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Arial Narrow"/>
              </a:rPr>
              <a:t>A standard way to simplify mathematical expressions and equations.</a:t>
            </a:r>
            <a:endParaRPr b="0" lang="en-US" sz="5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voids Confusion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Gives Consistenc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05680" y="3733920"/>
            <a:ext cx="329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der of operations are a set of rule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that mathematicians have agreed to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follow to avoid mass CONFUSION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when simplifying mathematical expression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 equations. Without these simple, but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important rules, learning mathematics would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be maddening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Rule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within Grouping Symbo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( ), { }, [ ], | |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Exponents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Raise to Power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Multiplication and Divis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Addition and Subtract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ack to Our Exampl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36232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20280" y="461340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423880" y="590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How can we remember i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arenthesi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lea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ponent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cu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ultiplic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ivis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ea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ddi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un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ubtrac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all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20:11:28Z</dcterms:created>
  <dc:creator>Mr. Clutter</dc:creator>
  <dc:description/>
  <dc:language>en-US</dc:language>
  <cp:lastModifiedBy>RomaK</cp:lastModifiedBy>
  <dcterms:modified xsi:type="dcterms:W3CDTF">2015-09-04T07:44:40Z</dcterms:modified>
  <cp:revision>6</cp:revision>
  <dc:subject/>
  <dc:title>Order of Operations</dc:title>
</cp:coreProperties>
</file>